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6280-19B4-48D4-919E-020B92C9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6351-E3D6-4C2E-9239-1120290B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3510-6596-4188-A82F-A898AE286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DF9D-4BA7-4D63-9B30-E3E9F8B05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866A-A578-4767-9316-5BDF0200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3A73-058B-4B91-B96B-4899B239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3179-4635-4C54-86E4-72C9F935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EA87-751F-4185-8A52-6DA9B2A1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3BD6-8FA6-403C-B279-25D07491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9288-7EAC-46EC-9AB1-7A2EDE0A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2AAC-0BCC-41FD-8355-9DBCD3F1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8A10-DCFE-4CC1-9D13-646BE4C7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C519-3D9D-435C-88CD-105319036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91440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nstantia"/>
              </a:rPr>
              <a:t>Claude Mon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5562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ounder of Impressionist Pai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657600" y="2286000"/>
            <a:ext cx="19051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14600" y="2438280"/>
            <a:ext cx="1947960" cy="2971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8600" y="2438280"/>
            <a:ext cx="1952640" cy="2895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7010280" y="2438280"/>
            <a:ext cx="1935360" cy="2971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rcRect l="17070" t="4872" r="19523" b="4872"/>
          <a:stretch/>
        </p:blipFill>
        <p:spPr>
          <a:xfrm>
            <a:off x="4648320" y="2286000"/>
            <a:ext cx="2195280" cy="3276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14400" y="304920"/>
            <a:ext cx="792468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en Cathed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fferent Times of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809880" cy="3019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48320" y="2784600"/>
            <a:ext cx="4114800" cy="3346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179160" y="158760"/>
            <a:ext cx="330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aude Monet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int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867280" y="2819520"/>
            <a:ext cx="2819520" cy="35049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2819520" cy="24890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62120" y="3352680"/>
            <a:ext cx="4190760" cy="3140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419720" y="91440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ude Mone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in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362320" y="1447920"/>
            <a:ext cx="5105160" cy="49910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10200" y="155520"/>
            <a:ext cx="226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ude Mone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n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04920" y="417204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029200" y="1033560"/>
            <a:ext cx="350532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724280" y="3809880"/>
            <a:ext cx="1449360" cy="2286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858000" y="3809880"/>
            <a:ext cx="1407960" cy="2286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914400" y="1600200"/>
            <a:ext cx="2286000" cy="2190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80880" y="22860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net at the Art Institute of Chic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57800" y="6324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rly Draw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886200" cy="4405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14400" y="2286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ressionist Painting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707000" y="1523880"/>
            <a:ext cx="3736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47720" y="1371600"/>
            <a:ext cx="3240000" cy="4719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674360" y="380880"/>
            <a:ext cx="53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ressionist Painting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334120" y="1295280"/>
            <a:ext cx="34621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962520" y="2362320"/>
            <a:ext cx="4929120" cy="3489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674360" y="685800"/>
            <a:ext cx="53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ressionist Painting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3029040" cy="1514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62120" y="3657600"/>
            <a:ext cx="26762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3254400" cy="46483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055240" y="380880"/>
            <a:ext cx="53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ressionist Painting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038480" y="1943280"/>
            <a:ext cx="4724640" cy="35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ude Mo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n November 14, 1840 in Paris, 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d December 5, 19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Name – Oscar Claude Mo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ed with charcoal and pencil drawings at age 1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er of Impressionist Pai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most famous French Impression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essionist Pai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 Art M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ke rules of academic painting (considered radic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painted outdoors rather than in a st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visual effects rather tha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ed in P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essionism was named after Monet’s painting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mpression, Sunr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556272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s of Impressionist Pain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, thin, visible brush stro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ted realistic scenes of modern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usual visual an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visual effect rather tha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ed the effects of sunlight using reflections, painting outdoors, and painting in the ev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 applied side by side rather than mix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essionist Pain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33880" y="1219320"/>
            <a:ext cx="3718080" cy="4572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43000" y="1219320"/>
            <a:ext cx="2736720" cy="4476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562720" y="60958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rthe Moris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60199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no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essionist Pain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638680" cy="3973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057400" y="5867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mille Pissar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2286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at Makes a Monet a Mon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1523880"/>
            <a:ext cx="70102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background, Monet only defined a few objects clear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et wove together an even web of color. He did not concentrate on any one 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et painted shadows and reflections with colors, and not just bl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et loved to paint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419720" y="3809880"/>
            <a:ext cx="342900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ude Mone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in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" y="3276720"/>
            <a:ext cx="3233880" cy="3276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114800" y="1833480"/>
            <a:ext cx="4572000" cy="3602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57200" y="990720"/>
            <a:ext cx="251460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23:50:15Z</dcterms:created>
  <dc:creator>Patrick J. Mooney</dc:creator>
  <dc:description/>
  <dc:language>en-US</dc:language>
  <cp:lastModifiedBy>Patrick J. Mooney</cp:lastModifiedBy>
  <dcterms:modified xsi:type="dcterms:W3CDTF">2011-02-08T04:35:43Z</dcterms:modified>
  <cp:revision>7</cp:revision>
  <dc:subject/>
  <dc:title>Slide 1</dc:title>
</cp:coreProperties>
</file>